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9FDD-BE11-4C63-AE44-320CBB99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F03-7BB3-4DA1-9654-898FFB45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4A5-D637-4ABC-8806-8F0ADCE9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DE6-2B71-4262-8BD7-E6E19DC5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7639-9552-43A1-9C8C-C88D8D0F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414D-9C1D-4BEC-89FC-8D7BC07D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892-AB0B-4175-A836-934089CF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FD74-E7A3-4B08-8014-A1543ABC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FB9-7FC5-4E5A-A7FA-5A68AFDA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5CDB-E7AA-46F8-A948-8A1EC0EA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924-C0EC-40E4-A86F-03079086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980-D500-42DE-B0C1-3D22FB3A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FED5-75CA-4638-BF64-765F73D11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Me llamo ___________ Clase 7IM</a:t>
            </a:r>
            <a:br>
              <a:rPr sz="3800"/>
            </a:b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La fecha es el 21 de noviembre del 20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26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tas ho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Historieta 3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45 (1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p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Ser (to b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Estar (to b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4039920" y="489096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So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30480" y="489096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cc00cc"/>
                </a:solidFill>
                <a:latin typeface="Arial"/>
              </a:rPr>
              <a:t>Est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20-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200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8:22:23Z</dcterms:created>
  <dc:creator>Helen Zumaeta</dc:creator>
  <dc:description/>
  <dc:language>en-US</dc:language>
  <cp:lastModifiedBy>Helen Zumaeta</cp:lastModifiedBy>
  <dcterms:modified xsi:type="dcterms:W3CDTF">2012-11-21T21:56:49Z</dcterms:modified>
  <cp:revision>14</cp:revision>
  <dc:subject/>
  <dc:title>Slide 1</dc:title>
</cp:coreProperties>
</file>